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CC1-F8CF-4736-B318-B692561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D37-FCB1-4F32-A0B8-68EF3AC4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932-77B4-4311-AA99-98DF8BAC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B4E-4047-40DC-942C-440884AF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8A4BD-CC25-4A58-B2C4-E71EDC88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B55F3-2FEB-48BC-B1A4-A7C2F629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BEB32-9541-42EF-9E1D-7FA9AF45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7DBF-51A6-4048-A576-0B6E087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9317B-020E-4175-8F36-49A644C0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6F07-3B69-4803-8BCE-D7B253B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65D43-F186-49A3-BFD0-F2FBA3F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2EA-6CF9-4834-9659-7620915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2F508-AC31-4EA9-88ED-B8AC8BC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C3B51-ECC8-42BC-BDBF-7F7E7D9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E3F57-E05E-4C40-AB21-DCCBE14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46BCE-C317-4781-A01D-B48C7D4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C540B-C395-4BEA-822B-028DCA7B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C65-F396-499A-96E2-56269FA7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357-2973-4BF4-9CA8-742B7AEB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1C3-701A-4656-A789-9DC1AC3F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9E3-E2FD-449B-A11B-57FE0B04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C42-4875-4C9A-9334-B9F7F0D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CFC-B7D8-4EB2-AACD-6551B79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70E-07E0-42A3-9B01-D6E67DF4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2F6-0DFA-419F-B794-10D090C39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A2EA-EC49-4FE8-8023-25E5421E7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3188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ames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pters 1-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8-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F602C-DF70-44F8-ACBF-E9907D7461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sic Outlin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al With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ing God First While We Are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ing Wealth I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ing God’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are of Favori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ting Your Faith And Work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737-829A-47D8-A495-C7FE26480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Deal With Tria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 it joy when you are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ain pat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 to God for wis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aith in your own pr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E70-5208-4305-BE9E-5B02B458B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eeping Wealth In Persp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et the poor become discouraged over their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wise, do not let the rich become obsessed with their w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all pass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B27-94DE-424C-A6A9-BF8851CE83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eeping God First While We Are Tes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ed is the man who endures temp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does not tempt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own desires draw us away from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e leads to sin, which leads to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good gift is from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God’s will we were made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894-A912-4004-857F-80E6FD7403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plying God’s Wo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aside all filthiness and wick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the Word with mee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ing the word and not doing it, is like ignoring your face in the mi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hink you are religious, you are most likely not, unl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bridle your tongu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the fatherless and widow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yourself unspotted from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8D4-7846-4CCE-B85E-4B0D42396B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eware of Favorit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judge people by their outward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reat people differently because of their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ity i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in = guilty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mercy in order to receive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A91-FE53-46A3-BBA9-06248FF00D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tting Your Faith and Works Togeth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the teaching you have rece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just talk about it…Do i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without works is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the demons believ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n proves his faith by his works            (Abraham, Raha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B0D-5095-4764-8E11-B98B6D6FE2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00:11:58Z</dcterms:created>
  <dc:creator>Jarrod S. Vines</dc:creator>
  <dc:description/>
  <dc:language>en-US</dc:language>
  <cp:lastModifiedBy>Frank D Vines</cp:lastModifiedBy>
  <dcterms:modified xsi:type="dcterms:W3CDTF">2007-07-19T03:46:18Z</dcterms:modified>
  <cp:revision>11</cp:revision>
  <dc:subject/>
  <dc:title>James Chapters 1-2</dc:title>
</cp:coreProperties>
</file>